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A1E-0D7B-43EA-9052-7207B928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314-91D1-4BC5-BE6F-E6FC6C4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AF4-0E16-4313-95AD-4394F776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75D-E59C-4B90-8D29-DBAE2EF1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190-6346-483D-83C5-6A1CB349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906-3A85-426D-9B9F-5A4CC97D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0CF-87F6-4B15-A0A7-6D56944A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97E-BB3A-4F0E-8A21-E8AD4B43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83E-B9EF-49F7-9964-387F1704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394-89A7-4E70-870E-6D26289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5E1-F13C-4E0E-8AEE-592C7E8A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637-FDF9-4B61-8F68-A17B51EC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A8E-1285-4C09-8924-9BF508042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 seasonal wind with 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04920" y="5486400"/>
            <a:ext cx="8305560" cy="1068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  India’s floods were caused by the monsoon r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news.nationalgeographic.com/news/bigphotos/images/061201-india-monsoon_big.jpg"/>
          <p:cNvPicPr/>
          <p:nvPr/>
        </p:nvPicPr>
        <p:blipFill>
          <a:blip r:embed="rId1"/>
          <a:stretch/>
        </p:blipFill>
        <p:spPr>
          <a:xfrm>
            <a:off x="2133720" y="380880"/>
            <a:ext cx="458136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 intense storm system with high wi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22860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04920" y="54864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  The caste system in India has been outlawed because it is discrimi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304920" y="3886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04920" y="48006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54864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20:26:01Z</dcterms:created>
  <dc:creator>poweruser</dc:creator>
  <dc:description/>
  <dc:language>en-US</dc:language>
  <cp:lastModifiedBy>poweruser</cp:lastModifiedBy>
  <dcterms:modified xsi:type="dcterms:W3CDTF">2011-01-06T21:29:48Z</dcterms:modified>
  <cp:revision>6</cp:revision>
  <dc:subject/>
  <dc:title>Slide 1</dc:title>
</cp:coreProperties>
</file>